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1.jpeg" ContentType="image/jpeg"/>
  <Override PartName="/ppt/media/image35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8055-BC0D-45F7-A708-3E13EDD61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5B18-70B3-46A2-BC36-2EA514FE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8866-EBEC-4C38-83AC-AB1D3C05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80F6-0BC2-4D23-9ADF-35C98235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642D-D896-48C3-A1F0-8CA61992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85D0-9C35-4D39-A4B9-458C0FDD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808-4410-4855-A188-DF92610F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44CF-CD23-4076-8BD2-EC5ECB09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806C-609A-4475-BED5-392CC653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DEF7-3842-4047-8EB1-A47E2301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25A8-870C-40EE-AAA7-BB1AEC07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3EE9-C9E9-45FD-B58C-1180A468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0876E-F706-47B2-8D28-EA179EC2B9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Narrow"/>
              </a:rPr>
              <a:t>*Série Dark’n’Luke*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0920" y="176328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alchimie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8353440" cy="74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08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276120"/>
            <a:ext cx="813744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986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9120" y="973080"/>
            <a:ext cx="957924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160" y="900000"/>
            <a:ext cx="98218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360" y="1079640"/>
            <a:ext cx="100962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44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1120" y="138240"/>
            <a:ext cx="8859600" cy="741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640" y="34920"/>
            <a:ext cx="885996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912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6000" y="74520"/>
            <a:ext cx="950436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04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iqueau blaise</cp:lastModifiedBy>
  <dcterms:modified xsi:type="dcterms:W3CDTF">2006-10-22T17:11:57Z</dcterms:modified>
  <cp:revision>4</cp:revision>
  <dc:subject/>
  <dc:title>Diapositive 1</dc:title>
</cp:coreProperties>
</file>